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90F-8617-4F79-9219-AD8CDFA8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929-152B-4CF1-933C-0C759A22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33B-67ED-4A4A-982C-42C438B2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7B1-C966-46BF-925B-EEEA8B7D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CFFD-978C-436A-833F-BFA85450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0E8-B2D4-4D84-A78D-FB2917CD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BE1B-ECAC-4404-8FDF-C0362527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03A7-FB97-4660-99E0-0D5F072F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42B1-9C5C-4A99-A573-CCE27899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3D6-6115-4010-8F60-FF7B2E03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6CE-5390-4319-BEEA-D451253A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E07-7C32-4C28-8EDA-4609E68B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F382-1E01-459D-A7C6-EAD36F2C7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Me llamo____________ </a:t>
            </a: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     Clase 702</a:t>
            </a:r>
            <a:br>
              <a:rPr sz="3800"/>
            </a:b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La fecha es el 8 de enero del 20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4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el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Quiz 1: Capitulo 5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mañ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el the parts of the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3733920" y="3124080"/>
            <a:ext cx="3174840" cy="3733920"/>
          </a:xfrm>
          <a:prstGeom prst="rect">
            <a:avLst/>
          </a:prstGeom>
          <a:ln w="0">
            <a:noFill/>
          </a:ln>
        </p:spPr>
      </p:pic>
      <p:sp>
        <p:nvSpPr>
          <p:cNvPr id="44" name="Line 10"/>
          <p:cNvSpPr/>
          <p:nvPr/>
        </p:nvSpPr>
        <p:spPr>
          <a:xfrm flipH="1">
            <a:off x="335268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4724280" y="5486400"/>
            <a:ext cx="22860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5105520" y="6477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5257800" y="5791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 flipH="1" flipV="1">
            <a:off x="2971800" y="47242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 flipV="1">
            <a:off x="5715000" y="41144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6"/>
          <p:cNvSpPr/>
          <p:nvPr/>
        </p:nvSpPr>
        <p:spPr>
          <a:xfrm flipH="1">
            <a:off x="281952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 flipV="1">
            <a:off x="5791320" y="49525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971800" y="5410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514600" y="3505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6858000" y="4724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2666880" y="4572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6705720" y="6248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6400800" y="3886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6781680" y="56228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90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b050"/>
                </a:solidFill>
                <a:latin typeface="Arial"/>
              </a:rPr>
              <a:t>I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Vocabulari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según el vocabulario ind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ego lanza el balón con ___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fo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l no lanza el balón con _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h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ambién lanza el balón con 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h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no lanza el balón con _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ego es un jugador muy bueno porque tiene _____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legs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fue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b050"/>
                </a:solidFill>
                <a:latin typeface="Arial"/>
              </a:rPr>
              <a:t>II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l futbo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 ¿Cuántos jugadores hay en el equipo de futbol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o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 ¿Cuántos tiempos hay en un partido de futbol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 ¿Quién guarda la portería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el porte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¿Cuándo mete un gol el jugador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uando el balón entra en la porter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¿Qué marca un jugador cuando el balón entra en la portería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un t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6. En el estadio, ¿Qué indica el tablero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l t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7. ¿Cuándo queda empatado el tanto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uando los dos equipos tienen el mismo t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0 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5.4-5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QUIZ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soccer vocabula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p.162-165 (textbo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p. 5.3-5.5 (workbo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3:46:55Z</dcterms:created>
  <dc:creator>Helen Zumaeta</dc:creator>
  <dc:description/>
  <dc:language>en-US</dc:language>
  <cp:lastModifiedBy>Helen Zumaeta</cp:lastModifiedBy>
  <cp:lastPrinted>2014-11-03T19:30:01Z</cp:lastPrinted>
  <dcterms:modified xsi:type="dcterms:W3CDTF">2015-01-08T21:00:49Z</dcterms:modified>
  <cp:revision>34</cp:revision>
  <dc:subject/>
  <dc:title>Me llamo____________  Clase 7 IL La fecha es el 4 de noviembre del 2010</dc:title>
</cp:coreProperties>
</file>